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646B-7070-4141-8A24-366775D50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2EF8-9634-401C-B47B-9F7950FEA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3.14 Clonal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1F08-C4A1-49B8-B64D-11A36BF80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3.16 The central role of helper T cells in humoral and cell-mediated immune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0E93-CAD7-4A33-8FA7-90FE9E017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3.17 The killing action of cytotoxic T cells on an infected host c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C272-8983-434B-88AB-50037EDBC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3.18 Activation of a B cell in the humoral immune respo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0455-F9CC-4ADE-829A-E4DBC4ACF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3.19 Antibody-mediated mechanisms of antigen dispos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0E35-1777-4377-AD5A-24C73C037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3.22 Mast cells, IgE, and the allergic respo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8110-FE9D-4847-BC6F-3060EAA1A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3.25 The progress of an untreated HIV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28EE-6F73-4133-B0A3-A7E5171BC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3.2 Overview of animal i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0170-790B-40EF-953D-313D40B7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2883-1833-42C7-B66F-21E62A8D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BB80-63CA-4003-81CD-37AEB868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BEB-A00B-4F02-A0DE-D72A380E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BFC0-863E-4AA0-9B2A-B8FB8A7D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2736-8105-4A9F-8BAD-DEB98DBE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E09F-FEE0-4C96-ACC3-0ECD5590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AF78-53A0-42CB-9ECA-8AA1E911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6F03-6748-4B94-A766-55F8AD36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B952-42DB-4C34-A83E-DD96CC36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6732-0E1B-48C3-BECD-C0CB9F91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8934-493C-4925-9179-27064F36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FEAE-F47A-47F4-8BD0-B2B4F815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6B3E-89FD-451C-9BE0-3E5A98BA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198F-FDFB-4DF8-A3F5-B231CE1E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1A44-AFFA-434E-B39D-9844EC36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44E2-401E-4342-A969-94312D4E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431-9939-46E3-83A7-01A8F3D4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021-7376-41CF-BB97-9F6BD242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E3A-8F8E-4373-86E0-C4D5BE6F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47E1-2253-4B15-B786-6399A846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2D0-AF9B-4B0E-9D72-F66C0ECF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026F-335B-485C-96BD-9B65CD4E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E4F-F994-4A33-AEE0-46A8141F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DD04-806F-43D7-9B0F-3B7F13B91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b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0" y="762120"/>
            <a:ext cx="9144000" cy="76176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Documents and Settings\dking\Desktop\55823Reece_Marketing_Cover\55823Reece9e_webdev.jpg"/>
          <p:cNvPicPr/>
          <p:nvPr/>
        </p:nvPicPr>
        <p:blipFill>
          <a:blip r:embed="rId2"/>
          <a:srcRect l="15728" t="38258" r="-249" b="23917"/>
          <a:stretch/>
        </p:blipFill>
        <p:spPr>
          <a:xfrm>
            <a:off x="0" y="1512720"/>
            <a:ext cx="9171000" cy="5040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1440" y="0"/>
            <a:ext cx="9145800" cy="7632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AMPBELL BIOLOGY, NINTH E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e B. Reece, Lisa A. Urry, Michael L. Cain, Steven A. Wasserman, Peter V. Minorsky, Robert B. Jack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152280" y="660384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11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705720" y="5562720"/>
            <a:ext cx="2361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ctures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rin Bar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Kathleen Fitzpatr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108840"/>
            <a:ext cx="1911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200400" y="6108840"/>
            <a:ext cx="290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629040" y="6108840"/>
            <a:ext cx="1911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6693-D088-4265-BCC2-F27F81B78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43 Warm-U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3160" y="144756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following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r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lymphocytes? Where do B cells and T cells m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Inflammatory Respons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Content Placeholder 3" descr="43_08LocalInflammatory_3-L.jpg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Lymphatic System: involved in adaptive immun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ontent Placeholder 3" descr="43_07HumanLymphaticSys-L.jpg"/>
          <p:cNvPicPr/>
          <p:nvPr/>
        </p:nvPicPr>
        <p:blipFill>
          <a:blip r:embed="rId1"/>
          <a:stretch/>
        </p:blipFill>
        <p:spPr>
          <a:xfrm>
            <a:off x="825480" y="977760"/>
            <a:ext cx="763272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daptive Respons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240" y="990360"/>
            <a:ext cx="5334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78b"/>
                </a:solidFill>
                <a:latin typeface="Arial"/>
              </a:rPr>
              <a:t>Lymphoc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WBCs): produced by stem cells in bone m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ature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y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er T, cytotoxic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tay and mature 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ne m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 cell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ti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43-08-LymphocyteDevelopm-L"/>
          <p:cNvPicPr/>
          <p:nvPr/>
        </p:nvPicPr>
        <p:blipFill>
          <a:blip r:embed="rId1"/>
          <a:stretch/>
        </p:blipFill>
        <p:spPr>
          <a:xfrm>
            <a:off x="5410080" y="685800"/>
            <a:ext cx="3295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6840" y="434304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Anti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ubstance that elicits lymphocyt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Anti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mmunoglobulin – Ig): protein made by B cell that binds to anti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43_10bRecognitionBCell-L.jpg"/>
          <p:cNvPicPr/>
          <p:nvPr/>
        </p:nvPicPr>
        <p:blipFill>
          <a:blip r:embed="rId1"/>
          <a:stretch/>
        </p:blipFill>
        <p:spPr>
          <a:xfrm>
            <a:off x="990720" y="263520"/>
            <a:ext cx="664056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43_12aRecognitionTCell-L.jpg"/>
          <p:cNvPicPr/>
          <p:nvPr/>
        </p:nvPicPr>
        <p:blipFill>
          <a:blip r:embed="rId1"/>
          <a:stretch/>
        </p:blipFill>
        <p:spPr>
          <a:xfrm>
            <a:off x="3048120" y="4394160"/>
            <a:ext cx="2971800" cy="23875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Major Histocompatibility Complex (MHC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228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 displayed on cel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for tissue/organ rejection 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el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and T cells bind to MHC molecule in adaptiv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ll body cells (except RB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 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isplayed by immune cells;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el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rigin of Self-Toleranc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422000"/>
            <a:ext cx="8153280" cy="34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en receptors are generated by random rearrangement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lymphocytes mature in bone marrow or the thymus, they are tested for self-re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B and T cells with receptors specific for the bod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own molecules are destroyed by apoptosis, or programmed cell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mainder are rendered non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58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1360" y="520560"/>
            <a:ext cx="8972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roliferation of B Cells and T Cel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383840"/>
            <a:ext cx="822960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body there are few lymphocytes with antigen receptors for any particular epit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lymph nodes, an antigen is exposed to a steady stream of lymphocytes until a match is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binding of a mature lymphocyte to an antigen initiates events that activate the lymphoc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64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3838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ctivated, a B or T cell undergoes multiple cell di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liferation of lymphocytes i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n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clones are produced: short-lived activa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or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ct immediately against the antigen and long-liv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an give rise to effector cells if the same antigen is encountered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69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ounded Rectangle 4"/>
          <p:cNvSpPr/>
          <p:nvPr/>
        </p:nvSpPr>
        <p:spPr>
          <a:xfrm>
            <a:off x="228600" y="1371600"/>
            <a:ext cx="3657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73"/>
                </a:solidFill>
                <a:latin typeface="Arial"/>
                <a:ea typeface="ヒラギノ角ゴ Pro W3"/>
              </a:rPr>
              <a:t>Humoral Immun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antibod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ounded Rectangle 5"/>
          <p:cNvSpPr/>
          <p:nvPr/>
        </p:nvSpPr>
        <p:spPr>
          <a:xfrm>
            <a:off x="5257800" y="1295280"/>
            <a:ext cx="36576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73"/>
                </a:solidFill>
                <a:latin typeface="Arial"/>
                <a:ea typeface="ヒラギノ角ゴ Pro W3"/>
              </a:rPr>
              <a:t>Cell-Mediated Immun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T Ce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3581280" y="228600"/>
            <a:ext cx="1905120" cy="1066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tigen-presenting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own Arrow 7"/>
          <p:cNvSpPr/>
          <p:nvPr/>
        </p:nvSpPr>
        <p:spPr>
          <a:xfrm>
            <a:off x="4419720" y="1523880"/>
            <a:ext cx="2286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3759120" y="2502000"/>
            <a:ext cx="152424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er 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own Arrow 10"/>
          <p:cNvSpPr/>
          <p:nvPr/>
        </p:nvSpPr>
        <p:spPr>
          <a:xfrm rot="5400000">
            <a:off x="3161880" y="2629080"/>
            <a:ext cx="228600" cy="6094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wn Arrow 11"/>
          <p:cNvSpPr/>
          <p:nvPr/>
        </p:nvSpPr>
        <p:spPr>
          <a:xfrm flipH="1" rot="16200000">
            <a:off x="5600520" y="2628720"/>
            <a:ext cx="228600" cy="60984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1600200" y="2590920"/>
            <a:ext cx="1143000" cy="609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6248520" y="2590920"/>
            <a:ext cx="205740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totoxic 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4"/>
          <p:cNvSpPr/>
          <p:nvPr/>
        </p:nvSpPr>
        <p:spPr>
          <a:xfrm>
            <a:off x="1371600" y="3886200"/>
            <a:ext cx="152388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ma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own Arrow 15"/>
          <p:cNvSpPr/>
          <p:nvPr/>
        </p:nvSpPr>
        <p:spPr>
          <a:xfrm>
            <a:off x="205740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Oval 16"/>
          <p:cNvGrpSpPr/>
          <p:nvPr/>
        </p:nvGrpSpPr>
        <p:grpSpPr>
          <a:xfrm>
            <a:off x="3780000" y="4973760"/>
            <a:ext cx="1888920" cy="1201680"/>
            <a:chOff x="3780000" y="4973760"/>
            <a:chExt cx="1888920" cy="1201680"/>
          </a:xfrm>
        </p:grpSpPr>
        <p:pic>
          <p:nvPicPr>
            <p:cNvPr id="184" name="Oval 16" descr=""/>
            <p:cNvPicPr/>
            <p:nvPr/>
          </p:nvPicPr>
          <p:blipFill>
            <a:blip r:embed="rId1"/>
            <a:stretch/>
          </p:blipFill>
          <p:spPr>
            <a:xfrm>
              <a:off x="3780000" y="4973760"/>
              <a:ext cx="188892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186080" y="5227560"/>
              <a:ext cx="10764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Infected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Down Arrow 17"/>
          <p:cNvSpPr/>
          <p:nvPr/>
        </p:nvSpPr>
        <p:spPr>
          <a:xfrm>
            <a:off x="2057400" y="48006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8"/>
          <p:cNvSpPr/>
          <p:nvPr/>
        </p:nvSpPr>
        <p:spPr>
          <a:xfrm>
            <a:off x="762120" y="5294160"/>
            <a:ext cx="281916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Anti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Down Arrow 19"/>
          <p:cNvSpPr/>
          <p:nvPr/>
        </p:nvSpPr>
        <p:spPr>
          <a:xfrm flipH="1" rot="16200000">
            <a:off x="3314520" y="5295600"/>
            <a:ext cx="228600" cy="60984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Bent-Up Arrow 20"/>
          <p:cNvSpPr/>
          <p:nvPr/>
        </p:nvSpPr>
        <p:spPr>
          <a:xfrm flipH="1" rot="16200000">
            <a:off x="5473440" y="3874320"/>
            <a:ext cx="2157480" cy="1676520"/>
          </a:xfrm>
          <a:custGeom>
            <a:avLst/>
            <a:gdLst>
              <a:gd name="textAreaLeft" fmla="*/ -360 w 2157480"/>
              <a:gd name="textAreaRight" fmla="*/ 2071800 w 2157480"/>
              <a:gd name="textAreaTop" fmla="*/ 1518840 h 1676520"/>
              <a:gd name="textAreaBottom" fmla="*/ 1676880 h 1676520"/>
            </a:gdLst>
            <a:ahLst/>
            <a:rect l="textAreaLeft" t="textAreaTop" r="textAreaRight" b="textAreaBottom"/>
            <a:pathLst>
              <a:path w="2157412" h="1676400">
                <a:moveTo>
                  <a:pt x="0" y="1518550"/>
                </a:moveTo>
                <a:lnTo>
                  <a:pt x="1914116" y="1518550"/>
                </a:lnTo>
                <a:lnTo>
                  <a:pt x="1914116" y="197027"/>
                </a:lnTo>
                <a:lnTo>
                  <a:pt x="1828670" y="197027"/>
                </a:lnTo>
                <a:lnTo>
                  <a:pt x="1993041" y="0"/>
                </a:lnTo>
                <a:lnTo>
                  <a:pt x="2157412" y="197027"/>
                </a:lnTo>
                <a:lnTo>
                  <a:pt x="2071966" y="197027"/>
                </a:lnTo>
                <a:lnTo>
                  <a:pt x="2071966" y="1676400"/>
                </a:lnTo>
                <a:lnTo>
                  <a:pt x="0" y="1676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1"/>
          <p:cNvSpPr/>
          <p:nvPr/>
        </p:nvSpPr>
        <p:spPr>
          <a:xfrm>
            <a:off x="5638680" y="47642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dentify and dest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2"/>
          <p:cNvSpPr/>
          <p:nvPr/>
        </p:nvSpPr>
        <p:spPr>
          <a:xfrm>
            <a:off x="2286000" y="47642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g for de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" descr="43_20aAdaptiveImmune-L.jpg"/>
          <p:cNvPicPr/>
          <p:nvPr/>
        </p:nvPicPr>
        <p:blipFill>
          <a:blip r:embed="rId1"/>
          <a:stretch/>
        </p:blipFill>
        <p:spPr>
          <a:xfrm>
            <a:off x="298440" y="1347840"/>
            <a:ext cx="8547120" cy="41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. 43 Review Warm-U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innate vs. adaptive immu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st the functions of B cells and T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antigens recognized by immune system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memory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HIV affect the immune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mmunological Memor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240" y="1143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mary immune respo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osure to 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emory ce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condary immune respo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peat exposur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ster, greater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43_15MemorySpecificity-L.jpg"/>
          <p:cNvPicPr/>
          <p:nvPr/>
        </p:nvPicPr>
        <p:blipFill>
          <a:blip r:embed="rId1"/>
          <a:stretch/>
        </p:blipFill>
        <p:spPr>
          <a:xfrm>
            <a:off x="2666880" y="3276720"/>
            <a:ext cx="39513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80" descr="43_14ClonalSelection-U"/>
          <p:cNvPicPr/>
          <p:nvPr/>
        </p:nvPicPr>
        <p:blipFill>
          <a:blip r:embed="rId1"/>
          <a:stretch/>
        </p:blipFill>
        <p:spPr>
          <a:xfrm>
            <a:off x="468360" y="136440"/>
            <a:ext cx="8207280" cy="65851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5557680" y="620640"/>
            <a:ext cx="911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1"/>
          <p:cNvSpPr/>
          <p:nvPr/>
        </p:nvSpPr>
        <p:spPr>
          <a:xfrm>
            <a:off x="7707240" y="852480"/>
            <a:ext cx="965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g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2"/>
          <p:cNvSpPr/>
          <p:nvPr/>
        </p:nvSpPr>
        <p:spPr>
          <a:xfrm>
            <a:off x="7145280" y="4379760"/>
            <a:ext cx="9921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3"/>
          <p:cNvSpPr/>
          <p:nvPr/>
        </p:nvSpPr>
        <p:spPr>
          <a:xfrm>
            <a:off x="5737320" y="6253200"/>
            <a:ext cx="1442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ma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4"/>
          <p:cNvSpPr/>
          <p:nvPr/>
        </p:nvSpPr>
        <p:spPr>
          <a:xfrm>
            <a:off x="1749600" y="6261120"/>
            <a:ext cx="1442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5"/>
          <p:cNvSpPr/>
          <p:nvPr/>
        </p:nvSpPr>
        <p:spPr>
          <a:xfrm>
            <a:off x="520560" y="504720"/>
            <a:ext cx="124488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cells tha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 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g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6"/>
          <p:cNvSpPr/>
          <p:nvPr/>
        </p:nvSpPr>
        <p:spPr>
          <a:xfrm flipH="1">
            <a:off x="6692400" y="4497480"/>
            <a:ext cx="41148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7"/>
          <p:cNvSpPr/>
          <p:nvPr/>
        </p:nvSpPr>
        <p:spPr>
          <a:xfrm>
            <a:off x="5105520" y="647640"/>
            <a:ext cx="423720" cy="9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8"/>
          <p:cNvSpPr/>
          <p:nvPr/>
        </p:nvSpPr>
        <p:spPr>
          <a:xfrm>
            <a:off x="7486560" y="846000"/>
            <a:ext cx="212760" cy="9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9"/>
          <p:cNvSpPr/>
          <p:nvPr/>
        </p:nvSpPr>
        <p:spPr>
          <a:xfrm>
            <a:off x="1838160" y="198360"/>
            <a:ext cx="152640" cy="1603440"/>
          </a:xfrm>
          <a:custGeom>
            <a:avLst/>
            <a:gdLst>
              <a:gd name="textAreaLeft" fmla="*/ 97560 w 152640"/>
              <a:gd name="textAreaRight" fmla="*/ 153000 w 152640"/>
              <a:gd name="textAreaTop" fmla="*/ 41760 h 1603440"/>
              <a:gd name="textAreaBottom" fmla="*/ 1561680 h 160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3.1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43_20bAdaptiveImmune-L.jpg"/>
          <p:cNvPicPr/>
          <p:nvPr/>
        </p:nvPicPr>
        <p:blipFill>
          <a:blip r:embed="rId1"/>
          <a:stretch/>
        </p:blipFill>
        <p:spPr>
          <a:xfrm>
            <a:off x="298440" y="441360"/>
            <a:ext cx="85471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43_20_AdaptiveImmune-L.jpg"/>
          <p:cNvPicPr/>
          <p:nvPr/>
        </p:nvPicPr>
        <p:blipFill>
          <a:blip r:embed="rId1"/>
          <a:stretch/>
        </p:blipFill>
        <p:spPr>
          <a:xfrm>
            <a:off x="701640" y="136440"/>
            <a:ext cx="774072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080" y="876240"/>
            <a:ext cx="8766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ept 43.3: Adaptive immunity defends against infection of body fluids and body cel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457000"/>
            <a:ext cx="83055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ed immunity has two branches: the humoral immune response and the cell-mediated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oral immune respon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bodies help neutralize or eliminate toxins and pathogens in the blood and ly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ell-mediated immune respon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T cells destroy affected hos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213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lper T Cells: A Response to Nearly All Antige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88604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of T cell called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er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ll triggers both the humoral and cell-mediated immune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from helper T cells initiate production of antibodies that neutralize pathogens and activate T cells that kill infecte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gen-presenting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class I and class II MHC molecules on their su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6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219" name="Rectangle 7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9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09480" y="1400040"/>
            <a:ext cx="7848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II MHC molecules are the basis upon which antigen-presenting cells are recog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en receptors on the surface of helper T cells bind to the antigen and the class II MHC molecule; then signals are exchanged between the two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elper T cell is activated, proliferates, and forms a clone of helper T cells, which then activate the appropriate B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224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3.1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72" descr="43_16HelperTCentralRole-U"/>
          <p:cNvPicPr/>
          <p:nvPr/>
        </p:nvPicPr>
        <p:blipFill>
          <a:blip r:embed="rId1"/>
          <a:stretch/>
        </p:blipFill>
        <p:spPr>
          <a:xfrm>
            <a:off x="297000" y="1309680"/>
            <a:ext cx="8548560" cy="42372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2041560" y="1468440"/>
            <a:ext cx="10191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tigen-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senting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6"/>
          <p:cNvSpPr/>
          <p:nvPr/>
        </p:nvSpPr>
        <p:spPr>
          <a:xfrm>
            <a:off x="2022480" y="2295360"/>
            <a:ext cx="8874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7"/>
          <p:cNvSpPr/>
          <p:nvPr/>
        </p:nvSpPr>
        <p:spPr>
          <a:xfrm>
            <a:off x="5533920" y="1641600"/>
            <a:ext cx="16146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tigen frag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8"/>
          <p:cNvSpPr/>
          <p:nvPr/>
        </p:nvSpPr>
        <p:spPr>
          <a:xfrm>
            <a:off x="5435640" y="2811600"/>
            <a:ext cx="210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MHC molecu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9"/>
          <p:cNvSpPr/>
          <p:nvPr/>
        </p:nvSpPr>
        <p:spPr>
          <a:xfrm>
            <a:off x="5429160" y="3043080"/>
            <a:ext cx="1720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ory prote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0"/>
          <p:cNvSpPr/>
          <p:nvPr/>
        </p:nvSpPr>
        <p:spPr>
          <a:xfrm>
            <a:off x="5429160" y="3295800"/>
            <a:ext cx="1575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tigen recep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1"/>
          <p:cNvSpPr/>
          <p:nvPr/>
        </p:nvSpPr>
        <p:spPr>
          <a:xfrm>
            <a:off x="5495760" y="3613320"/>
            <a:ext cx="11779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elper T ce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2"/>
          <p:cNvSpPr/>
          <p:nvPr/>
        </p:nvSpPr>
        <p:spPr>
          <a:xfrm>
            <a:off x="2782800" y="4181400"/>
            <a:ext cx="9399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ytoki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3"/>
          <p:cNvSpPr/>
          <p:nvPr/>
        </p:nvSpPr>
        <p:spPr>
          <a:xfrm>
            <a:off x="324000" y="4589640"/>
            <a:ext cx="885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umoral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4"/>
          <p:cNvSpPr/>
          <p:nvPr/>
        </p:nvSpPr>
        <p:spPr>
          <a:xfrm>
            <a:off x="7937640" y="4476600"/>
            <a:ext cx="898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ell-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diated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6"/>
          <p:cNvSpPr/>
          <p:nvPr/>
        </p:nvSpPr>
        <p:spPr>
          <a:xfrm>
            <a:off x="2657520" y="5035680"/>
            <a:ext cx="5443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 ce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7"/>
          <p:cNvSpPr/>
          <p:nvPr/>
        </p:nvSpPr>
        <p:spPr>
          <a:xfrm>
            <a:off x="5905440" y="5148360"/>
            <a:ext cx="14558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ytotoxic T ce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0"/>
          <p:cNvGrpSpPr/>
          <p:nvPr/>
        </p:nvGrpSpPr>
        <p:grpSpPr>
          <a:xfrm>
            <a:off x="3295800" y="4921200"/>
            <a:ext cx="244440" cy="212400"/>
            <a:chOff x="3295800" y="4921200"/>
            <a:chExt cx="244440" cy="212400"/>
          </a:xfrm>
        </p:grpSpPr>
        <p:sp>
          <p:nvSpPr>
            <p:cNvPr id="242" name="Oval 48"/>
            <p:cNvSpPr/>
            <p:nvPr/>
          </p:nvSpPr>
          <p:spPr>
            <a:xfrm>
              <a:off x="3295800" y="4921200"/>
              <a:ext cx="211320" cy="212400"/>
            </a:xfrm>
            <a:prstGeom prst="ellipse">
              <a:avLst/>
            </a:prstGeom>
            <a:solidFill>
              <a:srgbClr val="157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49"/>
            <p:cNvSpPr/>
            <p:nvPr/>
          </p:nvSpPr>
          <p:spPr>
            <a:xfrm>
              <a:off x="3353040" y="4937040"/>
              <a:ext cx="187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51"/>
          <p:cNvGrpSpPr/>
          <p:nvPr/>
        </p:nvGrpSpPr>
        <p:grpSpPr>
          <a:xfrm>
            <a:off x="4307040" y="4452840"/>
            <a:ext cx="244440" cy="212400"/>
            <a:chOff x="4307040" y="4452840"/>
            <a:chExt cx="244440" cy="212400"/>
          </a:xfrm>
        </p:grpSpPr>
        <p:sp>
          <p:nvSpPr>
            <p:cNvPr id="245" name="Oval 52"/>
            <p:cNvSpPr/>
            <p:nvPr/>
          </p:nvSpPr>
          <p:spPr>
            <a:xfrm>
              <a:off x="4307040" y="4452840"/>
              <a:ext cx="211320" cy="212400"/>
            </a:xfrm>
            <a:prstGeom prst="ellipse">
              <a:avLst/>
            </a:prstGeom>
            <a:solidFill>
              <a:srgbClr val="157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53"/>
            <p:cNvSpPr/>
            <p:nvPr/>
          </p:nvSpPr>
          <p:spPr>
            <a:xfrm>
              <a:off x="4364280" y="4468680"/>
              <a:ext cx="187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54"/>
          <p:cNvGrpSpPr/>
          <p:nvPr/>
        </p:nvGrpSpPr>
        <p:grpSpPr>
          <a:xfrm>
            <a:off x="4175280" y="3076560"/>
            <a:ext cx="244440" cy="212400"/>
            <a:chOff x="4175280" y="3076560"/>
            <a:chExt cx="244440" cy="212400"/>
          </a:xfrm>
        </p:grpSpPr>
        <p:sp>
          <p:nvSpPr>
            <p:cNvPr id="248" name="Oval 55"/>
            <p:cNvSpPr/>
            <p:nvPr/>
          </p:nvSpPr>
          <p:spPr>
            <a:xfrm>
              <a:off x="4175280" y="3076560"/>
              <a:ext cx="211320" cy="212400"/>
            </a:xfrm>
            <a:prstGeom prst="ellipse">
              <a:avLst/>
            </a:prstGeom>
            <a:solidFill>
              <a:srgbClr val="157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56"/>
            <p:cNvSpPr/>
            <p:nvPr/>
          </p:nvSpPr>
          <p:spPr>
            <a:xfrm>
              <a:off x="4232520" y="3092400"/>
              <a:ext cx="187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57"/>
          <p:cNvSpPr/>
          <p:nvPr/>
        </p:nvSpPr>
        <p:spPr>
          <a:xfrm>
            <a:off x="3722760" y="3997440"/>
            <a:ext cx="160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8"/>
          <p:cNvSpPr/>
          <p:nvPr/>
        </p:nvSpPr>
        <p:spPr>
          <a:xfrm>
            <a:off x="3371760" y="4680000"/>
            <a:ext cx="1605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9"/>
          <p:cNvSpPr/>
          <p:nvPr/>
        </p:nvSpPr>
        <p:spPr>
          <a:xfrm>
            <a:off x="5594400" y="4149720"/>
            <a:ext cx="160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0"/>
          <p:cNvSpPr/>
          <p:nvPr/>
        </p:nvSpPr>
        <p:spPr>
          <a:xfrm>
            <a:off x="5872320" y="4692600"/>
            <a:ext cx="160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1"/>
          <p:cNvSpPr/>
          <p:nvPr/>
        </p:nvSpPr>
        <p:spPr>
          <a:xfrm>
            <a:off x="2909880" y="1560600"/>
            <a:ext cx="58248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62"/>
          <p:cNvSpPr/>
          <p:nvPr/>
        </p:nvSpPr>
        <p:spPr>
          <a:xfrm flipV="1">
            <a:off x="2936880" y="2170080"/>
            <a:ext cx="925560" cy="18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63"/>
          <p:cNvSpPr/>
          <p:nvPr/>
        </p:nvSpPr>
        <p:spPr>
          <a:xfrm flipH="1">
            <a:off x="4894200" y="1746360"/>
            <a:ext cx="59544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64"/>
          <p:cNvSpPr/>
          <p:nvPr/>
        </p:nvSpPr>
        <p:spPr>
          <a:xfrm>
            <a:off x="4735440" y="290988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5"/>
          <p:cNvSpPr/>
          <p:nvPr/>
        </p:nvSpPr>
        <p:spPr>
          <a:xfrm>
            <a:off x="4867200" y="3162240"/>
            <a:ext cx="53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6"/>
          <p:cNvSpPr/>
          <p:nvPr/>
        </p:nvSpPr>
        <p:spPr>
          <a:xfrm>
            <a:off x="4643280" y="336060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7"/>
          <p:cNvSpPr/>
          <p:nvPr/>
        </p:nvSpPr>
        <p:spPr>
          <a:xfrm flipV="1">
            <a:off x="5132520" y="3690720"/>
            <a:ext cx="317520" cy="5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8"/>
          <p:cNvSpPr/>
          <p:nvPr/>
        </p:nvSpPr>
        <p:spPr>
          <a:xfrm flipH="1">
            <a:off x="3386160" y="3822840"/>
            <a:ext cx="9360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9"/>
          <p:cNvSpPr/>
          <p:nvPr/>
        </p:nvSpPr>
        <p:spPr>
          <a:xfrm>
            <a:off x="3413160" y="4378320"/>
            <a:ext cx="43668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70"/>
          <p:cNvSpPr/>
          <p:nvPr/>
        </p:nvSpPr>
        <p:spPr>
          <a:xfrm>
            <a:off x="2460600" y="5000760"/>
            <a:ext cx="146160" cy="10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71"/>
          <p:cNvSpPr/>
          <p:nvPr/>
        </p:nvSpPr>
        <p:spPr>
          <a:xfrm flipH="1">
            <a:off x="6692760" y="4973760"/>
            <a:ext cx="5400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280" y="4950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ytotoxic T Cells: A Response to Infected Cel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951200"/>
            <a:ext cx="83055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totoxic T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effector cells in the cell-mediated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totoxic T cells recognize fragments of foreign proteins produced by infected cells and possess an accessory protein that binds to class I MHC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ivated cytotoxic T cell secretes proteins that disrupt the membranes of target cells and trigger apopt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6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268" name="Rectangle 7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9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3.17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38" descr="43_17CytotoxicTCells_3-U"/>
          <p:cNvPicPr/>
          <p:nvPr/>
        </p:nvPicPr>
        <p:blipFill>
          <a:blip r:embed="rId1"/>
          <a:stretch/>
        </p:blipFill>
        <p:spPr>
          <a:xfrm>
            <a:off x="297000" y="1862280"/>
            <a:ext cx="8548560" cy="31334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453960" y="1996920"/>
            <a:ext cx="1443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ytotoxic T ce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5"/>
          <p:cNvGrpSpPr/>
          <p:nvPr/>
        </p:nvGrpSpPr>
        <p:grpSpPr>
          <a:xfrm>
            <a:off x="6635880" y="4546440"/>
            <a:ext cx="244440" cy="212400"/>
            <a:chOff x="6635880" y="4546440"/>
            <a:chExt cx="244440" cy="212400"/>
          </a:xfrm>
        </p:grpSpPr>
        <p:sp>
          <p:nvSpPr>
            <p:cNvPr id="275" name="Oval 6"/>
            <p:cNvSpPr/>
            <p:nvPr/>
          </p:nvSpPr>
          <p:spPr>
            <a:xfrm>
              <a:off x="6635880" y="4546440"/>
              <a:ext cx="211320" cy="212400"/>
            </a:xfrm>
            <a:prstGeom prst="ellipse">
              <a:avLst/>
            </a:prstGeom>
            <a:solidFill>
              <a:srgbClr val="157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7"/>
            <p:cNvSpPr/>
            <p:nvPr/>
          </p:nvSpPr>
          <p:spPr>
            <a:xfrm>
              <a:off x="6693120" y="4562280"/>
              <a:ext cx="187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8"/>
          <p:cNvGrpSpPr/>
          <p:nvPr/>
        </p:nvGrpSpPr>
        <p:grpSpPr>
          <a:xfrm>
            <a:off x="378000" y="4545000"/>
            <a:ext cx="244440" cy="212400"/>
            <a:chOff x="378000" y="4545000"/>
            <a:chExt cx="244440" cy="212400"/>
          </a:xfrm>
        </p:grpSpPr>
        <p:sp>
          <p:nvSpPr>
            <p:cNvPr id="278" name="Oval 9"/>
            <p:cNvSpPr/>
            <p:nvPr/>
          </p:nvSpPr>
          <p:spPr>
            <a:xfrm>
              <a:off x="378000" y="4545000"/>
              <a:ext cx="211320" cy="212400"/>
            </a:xfrm>
            <a:prstGeom prst="ellipse">
              <a:avLst/>
            </a:prstGeom>
            <a:solidFill>
              <a:srgbClr val="157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0"/>
            <p:cNvSpPr/>
            <p:nvPr/>
          </p:nvSpPr>
          <p:spPr>
            <a:xfrm>
              <a:off x="435240" y="4560840"/>
              <a:ext cx="187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1"/>
          <p:cNvGrpSpPr/>
          <p:nvPr/>
        </p:nvGrpSpPr>
        <p:grpSpPr>
          <a:xfrm>
            <a:off x="3751200" y="4545000"/>
            <a:ext cx="244440" cy="212400"/>
            <a:chOff x="3751200" y="4545000"/>
            <a:chExt cx="244440" cy="212400"/>
          </a:xfrm>
        </p:grpSpPr>
        <p:sp>
          <p:nvSpPr>
            <p:cNvPr id="281" name="Oval 12"/>
            <p:cNvSpPr/>
            <p:nvPr/>
          </p:nvSpPr>
          <p:spPr>
            <a:xfrm>
              <a:off x="3751200" y="4545000"/>
              <a:ext cx="211320" cy="212400"/>
            </a:xfrm>
            <a:prstGeom prst="ellipse">
              <a:avLst/>
            </a:prstGeom>
            <a:solidFill>
              <a:srgbClr val="157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3"/>
            <p:cNvSpPr/>
            <p:nvPr/>
          </p:nvSpPr>
          <p:spPr>
            <a:xfrm>
              <a:off x="3808440" y="4560840"/>
              <a:ext cx="187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14"/>
          <p:cNvSpPr/>
          <p:nvPr/>
        </p:nvSpPr>
        <p:spPr>
          <a:xfrm>
            <a:off x="420840" y="2890800"/>
            <a:ext cx="101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ory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426960" y="3373560"/>
            <a:ext cx="11509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MHC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439560" y="4033800"/>
            <a:ext cx="754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ected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2365200" y="3114720"/>
            <a:ext cx="808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tigen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2676600" y="4365720"/>
            <a:ext cx="8078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tigen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rag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787920" y="3279600"/>
            <a:ext cx="768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erfor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3767040" y="3749760"/>
            <a:ext cx="4510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5824440" y="3413160"/>
            <a:ext cx="582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ran-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zy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2"/>
          <p:cNvSpPr/>
          <p:nvPr/>
        </p:nvSpPr>
        <p:spPr>
          <a:xfrm>
            <a:off x="7915320" y="2076480"/>
            <a:ext cx="847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leased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ytotoxic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 ce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3"/>
          <p:cNvSpPr/>
          <p:nvPr/>
        </p:nvSpPr>
        <p:spPr>
          <a:xfrm>
            <a:off x="7656480" y="3062160"/>
            <a:ext cx="112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ying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ected ce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"/>
          <p:cNvSpPr/>
          <p:nvPr/>
        </p:nvSpPr>
        <p:spPr>
          <a:xfrm>
            <a:off x="1508040" y="2195640"/>
            <a:ext cx="25092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5"/>
          <p:cNvSpPr/>
          <p:nvPr/>
        </p:nvSpPr>
        <p:spPr>
          <a:xfrm>
            <a:off x="1415880" y="3016080"/>
            <a:ext cx="38268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6"/>
          <p:cNvSpPr/>
          <p:nvPr/>
        </p:nvSpPr>
        <p:spPr>
          <a:xfrm>
            <a:off x="2050920" y="31878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7"/>
          <p:cNvSpPr/>
          <p:nvPr/>
        </p:nvSpPr>
        <p:spPr>
          <a:xfrm>
            <a:off x="1560600" y="3465360"/>
            <a:ext cx="34452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8"/>
          <p:cNvSpPr/>
          <p:nvPr/>
        </p:nvSpPr>
        <p:spPr>
          <a:xfrm>
            <a:off x="793800" y="4325760"/>
            <a:ext cx="60804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9"/>
          <p:cNvSpPr/>
          <p:nvPr/>
        </p:nvSpPr>
        <p:spPr>
          <a:xfrm>
            <a:off x="2209680" y="4484520"/>
            <a:ext cx="43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0"/>
          <p:cNvSpPr/>
          <p:nvPr/>
        </p:nvSpPr>
        <p:spPr>
          <a:xfrm>
            <a:off x="2036880" y="318780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1"/>
          <p:cNvSpPr/>
          <p:nvPr/>
        </p:nvSpPr>
        <p:spPr>
          <a:xfrm flipH="1">
            <a:off x="4524120" y="3135240"/>
            <a:ext cx="23796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2"/>
          <p:cNvSpPr/>
          <p:nvPr/>
        </p:nvSpPr>
        <p:spPr>
          <a:xfrm>
            <a:off x="4524480" y="3373560"/>
            <a:ext cx="198360" cy="25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3"/>
          <p:cNvSpPr/>
          <p:nvPr/>
        </p:nvSpPr>
        <p:spPr>
          <a:xfrm>
            <a:off x="4219560" y="3862440"/>
            <a:ext cx="26496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4"/>
          <p:cNvSpPr/>
          <p:nvPr/>
        </p:nvSpPr>
        <p:spPr>
          <a:xfrm>
            <a:off x="5556240" y="3413160"/>
            <a:ext cx="21132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5"/>
          <p:cNvSpPr/>
          <p:nvPr/>
        </p:nvSpPr>
        <p:spPr>
          <a:xfrm flipH="1">
            <a:off x="5383080" y="3505320"/>
            <a:ext cx="384480" cy="10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6"/>
          <p:cNvSpPr/>
          <p:nvPr/>
        </p:nvSpPr>
        <p:spPr>
          <a:xfrm>
            <a:off x="7526160" y="217008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7"/>
          <p:cNvSpPr/>
          <p:nvPr/>
        </p:nvSpPr>
        <p:spPr>
          <a:xfrm flipH="1">
            <a:off x="7950240" y="3452760"/>
            <a:ext cx="396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43_01MacrophageYeast-L.jpg"/>
          <p:cNvPicPr/>
          <p:nvPr/>
        </p:nvPicPr>
        <p:blipFill>
          <a:blip r:embed="rId1"/>
          <a:stretch/>
        </p:blipFill>
        <p:spPr>
          <a:xfrm>
            <a:off x="496800" y="399960"/>
            <a:ext cx="8150400" cy="6058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8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IMMUNE SYST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45720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49500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 Cells and Antibodies: A Response to Extracellular Pathoge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160" y="1898640"/>
            <a:ext cx="792468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71720" indent="-17172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umoral response is characterized by secretion of antibodies by B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ion of the humoral immune response involves B cells and helper T cells as well as proteins on the surface of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sponse to cytokines from helper T cells and an antigen, a B cell proliferates and differentiates into memory B cells and antibody secreting effector cell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sma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310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3.18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38" descr="43_18BCellActivation_3-U"/>
          <p:cNvPicPr/>
          <p:nvPr/>
        </p:nvPicPr>
        <p:blipFill>
          <a:blip r:embed="rId1"/>
          <a:stretch/>
        </p:blipFill>
        <p:spPr>
          <a:xfrm>
            <a:off x="297000" y="1577880"/>
            <a:ext cx="8548560" cy="37004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2292480" y="1746360"/>
            <a:ext cx="9144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5"/>
          <p:cNvGrpSpPr/>
          <p:nvPr/>
        </p:nvGrpSpPr>
        <p:grpSpPr>
          <a:xfrm>
            <a:off x="6040440" y="4784760"/>
            <a:ext cx="244440" cy="212400"/>
            <a:chOff x="6040440" y="4784760"/>
            <a:chExt cx="244440" cy="212400"/>
          </a:xfrm>
        </p:grpSpPr>
        <p:sp>
          <p:nvSpPr>
            <p:cNvPr id="317" name="Oval 6"/>
            <p:cNvSpPr/>
            <p:nvPr/>
          </p:nvSpPr>
          <p:spPr>
            <a:xfrm>
              <a:off x="6040440" y="4784760"/>
              <a:ext cx="211320" cy="212400"/>
            </a:xfrm>
            <a:prstGeom prst="ellipse">
              <a:avLst/>
            </a:prstGeom>
            <a:solidFill>
              <a:srgbClr val="157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7"/>
            <p:cNvSpPr/>
            <p:nvPr/>
          </p:nvSpPr>
          <p:spPr>
            <a:xfrm>
              <a:off x="6097680" y="4800600"/>
              <a:ext cx="187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8"/>
          <p:cNvGrpSpPr/>
          <p:nvPr/>
        </p:nvGrpSpPr>
        <p:grpSpPr>
          <a:xfrm>
            <a:off x="404640" y="4782960"/>
            <a:ext cx="244440" cy="212400"/>
            <a:chOff x="404640" y="4782960"/>
            <a:chExt cx="244440" cy="212400"/>
          </a:xfrm>
        </p:grpSpPr>
        <p:sp>
          <p:nvSpPr>
            <p:cNvPr id="320" name="Oval 9"/>
            <p:cNvSpPr/>
            <p:nvPr/>
          </p:nvSpPr>
          <p:spPr>
            <a:xfrm>
              <a:off x="404640" y="4782960"/>
              <a:ext cx="211320" cy="212400"/>
            </a:xfrm>
            <a:prstGeom prst="ellipse">
              <a:avLst/>
            </a:prstGeom>
            <a:solidFill>
              <a:srgbClr val="157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461880" y="4798800"/>
              <a:ext cx="187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11"/>
          <p:cNvGrpSpPr/>
          <p:nvPr/>
        </p:nvGrpSpPr>
        <p:grpSpPr>
          <a:xfrm>
            <a:off x="3446640" y="4782960"/>
            <a:ext cx="244440" cy="212400"/>
            <a:chOff x="3446640" y="4782960"/>
            <a:chExt cx="244440" cy="212400"/>
          </a:xfrm>
        </p:grpSpPr>
        <p:sp>
          <p:nvSpPr>
            <p:cNvPr id="323" name="Oval 12"/>
            <p:cNvSpPr/>
            <p:nvPr/>
          </p:nvSpPr>
          <p:spPr>
            <a:xfrm>
              <a:off x="3446640" y="4782960"/>
              <a:ext cx="211320" cy="212400"/>
            </a:xfrm>
            <a:prstGeom prst="ellipse">
              <a:avLst/>
            </a:prstGeom>
            <a:solidFill>
              <a:srgbClr val="157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3"/>
            <p:cNvSpPr/>
            <p:nvPr/>
          </p:nvSpPr>
          <p:spPr>
            <a:xfrm>
              <a:off x="3503880" y="4798800"/>
              <a:ext cx="187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 Box 15"/>
          <p:cNvSpPr/>
          <p:nvPr/>
        </p:nvSpPr>
        <p:spPr>
          <a:xfrm>
            <a:off x="434880" y="1725480"/>
            <a:ext cx="16812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gen-present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2306520" y="1984320"/>
            <a:ext cx="8082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g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g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428760" y="2949480"/>
            <a:ext cx="7156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H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388800" y="3597120"/>
            <a:ext cx="754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g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0"/>
          <p:cNvSpPr/>
          <p:nvPr/>
        </p:nvSpPr>
        <p:spPr>
          <a:xfrm>
            <a:off x="2003400" y="3267000"/>
            <a:ext cx="927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or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1116000" y="4576680"/>
            <a:ext cx="10857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lper T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2"/>
          <p:cNvSpPr/>
          <p:nvPr/>
        </p:nvSpPr>
        <p:spPr>
          <a:xfrm>
            <a:off x="3597120" y="2070000"/>
            <a:ext cx="5446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4861080" y="3492360"/>
            <a:ext cx="8762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ytok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3789360" y="4405320"/>
            <a:ext cx="1219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at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lper T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6302520" y="2895480"/>
            <a:ext cx="13381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 B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6137280" y="4529160"/>
            <a:ext cx="1100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sma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7"/>
          <p:cNvSpPr/>
          <p:nvPr/>
        </p:nvSpPr>
        <p:spPr>
          <a:xfrm>
            <a:off x="7624800" y="4654440"/>
            <a:ext cx="914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ret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4932360" y="3092400"/>
            <a:ext cx="160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9"/>
          <p:cNvSpPr/>
          <p:nvPr/>
        </p:nvSpPr>
        <p:spPr>
          <a:xfrm>
            <a:off x="1282680" y="1905120"/>
            <a:ext cx="185760" cy="36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0"/>
          <p:cNvSpPr/>
          <p:nvPr/>
        </p:nvSpPr>
        <p:spPr>
          <a:xfrm>
            <a:off x="1138320" y="3043080"/>
            <a:ext cx="36972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31"/>
          <p:cNvSpPr/>
          <p:nvPr/>
        </p:nvSpPr>
        <p:spPr>
          <a:xfrm flipV="1">
            <a:off x="1084320" y="3544920"/>
            <a:ext cx="49032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3"/>
          <p:cNvSpPr/>
          <p:nvPr/>
        </p:nvSpPr>
        <p:spPr>
          <a:xfrm flipH="1">
            <a:off x="1984320" y="2249640"/>
            <a:ext cx="27792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4"/>
          <p:cNvSpPr/>
          <p:nvPr/>
        </p:nvSpPr>
        <p:spPr>
          <a:xfrm>
            <a:off x="1758960" y="3559320"/>
            <a:ext cx="19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5"/>
          <p:cNvSpPr/>
          <p:nvPr/>
        </p:nvSpPr>
        <p:spPr>
          <a:xfrm>
            <a:off x="1600200" y="435276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6"/>
          <p:cNvSpPr/>
          <p:nvPr/>
        </p:nvSpPr>
        <p:spPr>
          <a:xfrm>
            <a:off x="3994200" y="2249640"/>
            <a:ext cx="25236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7"/>
          <p:cNvSpPr/>
          <p:nvPr/>
        </p:nvSpPr>
        <p:spPr>
          <a:xfrm>
            <a:off x="3968640" y="4219560"/>
            <a:ext cx="0" cy="1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9"/>
          <p:cNvSpPr/>
          <p:nvPr/>
        </p:nvSpPr>
        <p:spPr>
          <a:xfrm flipH="1">
            <a:off x="1837800" y="1862280"/>
            <a:ext cx="420840" cy="37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968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ntibody Func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363320"/>
            <a:ext cx="80010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bodies do not kill pathogens; instead they mark pathogens for de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eutralization, antibodies bind to viral surface proteins preventing infection of a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bodies may also bind to toxins in body fluids and prevent them from entering body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6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350" name="Rectangle 7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Rectangle 9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533160" y="1363680"/>
            <a:ext cx="800100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psonization, antibodies bind to antigens on bacteria creating a target for macrophages or neutrophils, triggering phagocyt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en-antibody complexes may bind to a complement protein—which triggers a cascade of complement protein 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mately a membrane attack complex forms a pore in the membrane of the foreign cell, leading to its 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355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3.1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Picture 59" descr="43_19_AntigenDisposal-U"/>
          <p:cNvPicPr/>
          <p:nvPr/>
        </p:nvPicPr>
        <p:blipFill>
          <a:blip r:embed="rId1"/>
          <a:stretch/>
        </p:blipFill>
        <p:spPr>
          <a:xfrm>
            <a:off x="297000" y="1660680"/>
            <a:ext cx="8548560" cy="35352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14"/>
          <p:cNvSpPr/>
          <p:nvPr/>
        </p:nvSpPr>
        <p:spPr>
          <a:xfrm>
            <a:off x="2484360" y="1871640"/>
            <a:ext cx="11923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s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7"/>
          <p:cNvSpPr/>
          <p:nvPr/>
        </p:nvSpPr>
        <p:spPr>
          <a:xfrm>
            <a:off x="361800" y="1878120"/>
            <a:ext cx="11923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utr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1538280" y="2394000"/>
            <a:ext cx="7826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1862280" y="3247920"/>
            <a:ext cx="4777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0"/>
          <p:cNvSpPr/>
          <p:nvPr/>
        </p:nvSpPr>
        <p:spPr>
          <a:xfrm>
            <a:off x="3581280" y="3127320"/>
            <a:ext cx="8892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te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100320" y="4786200"/>
            <a:ext cx="1074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roph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2"/>
          <p:cNvSpPr/>
          <p:nvPr/>
        </p:nvSpPr>
        <p:spPr>
          <a:xfrm>
            <a:off x="4621320" y="1679400"/>
            <a:ext cx="3666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ation of complement system and por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3"/>
          <p:cNvSpPr/>
          <p:nvPr/>
        </p:nvSpPr>
        <p:spPr>
          <a:xfrm>
            <a:off x="6154560" y="2181240"/>
            <a:ext cx="18417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ment prote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4"/>
          <p:cNvSpPr/>
          <p:nvPr/>
        </p:nvSpPr>
        <p:spPr>
          <a:xfrm>
            <a:off x="6624720" y="2571840"/>
            <a:ext cx="21319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ation of membran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ack com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5"/>
          <p:cNvSpPr/>
          <p:nvPr/>
        </p:nvSpPr>
        <p:spPr>
          <a:xfrm>
            <a:off x="7537320" y="3260880"/>
            <a:ext cx="11541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ow of wate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6"/>
          <p:cNvSpPr/>
          <p:nvPr/>
        </p:nvSpPr>
        <p:spPr>
          <a:xfrm>
            <a:off x="8370720" y="3975120"/>
            <a:ext cx="4255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7"/>
          <p:cNvSpPr/>
          <p:nvPr/>
        </p:nvSpPr>
        <p:spPr>
          <a:xfrm>
            <a:off x="6031080" y="4570560"/>
            <a:ext cx="6904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8"/>
          <p:cNvSpPr/>
          <p:nvPr/>
        </p:nvSpPr>
        <p:spPr>
          <a:xfrm>
            <a:off x="4702320" y="4603680"/>
            <a:ext cx="677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eig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9"/>
          <p:cNvSpPr/>
          <p:nvPr/>
        </p:nvSpPr>
        <p:spPr>
          <a:xfrm flipH="1">
            <a:off x="1336680" y="2448000"/>
            <a:ext cx="17136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50"/>
          <p:cNvSpPr/>
          <p:nvPr/>
        </p:nvSpPr>
        <p:spPr>
          <a:xfrm>
            <a:off x="1481040" y="3333600"/>
            <a:ext cx="37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51"/>
          <p:cNvSpPr/>
          <p:nvPr/>
        </p:nvSpPr>
        <p:spPr>
          <a:xfrm>
            <a:off x="3479760" y="2778120"/>
            <a:ext cx="250920" cy="34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2"/>
          <p:cNvSpPr/>
          <p:nvPr/>
        </p:nvSpPr>
        <p:spPr>
          <a:xfrm flipH="1">
            <a:off x="5211360" y="2289240"/>
            <a:ext cx="88596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3"/>
          <p:cNvSpPr/>
          <p:nvPr/>
        </p:nvSpPr>
        <p:spPr>
          <a:xfrm flipH="1">
            <a:off x="5898960" y="2289240"/>
            <a:ext cx="19836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54"/>
          <p:cNvSpPr/>
          <p:nvPr/>
        </p:nvSpPr>
        <p:spPr>
          <a:xfrm flipH="1">
            <a:off x="6706800" y="2963880"/>
            <a:ext cx="51588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5"/>
          <p:cNvSpPr/>
          <p:nvPr/>
        </p:nvSpPr>
        <p:spPr>
          <a:xfrm>
            <a:off x="7223040" y="2963880"/>
            <a:ext cx="0" cy="80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6"/>
          <p:cNvSpPr/>
          <p:nvPr/>
        </p:nvSpPr>
        <p:spPr>
          <a:xfrm>
            <a:off x="8215200" y="3638520"/>
            <a:ext cx="9216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7"/>
          <p:cNvSpPr/>
          <p:nvPr/>
        </p:nvSpPr>
        <p:spPr>
          <a:xfrm flipH="1">
            <a:off x="8254800" y="4154400"/>
            <a:ext cx="23796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8"/>
          <p:cNvSpPr/>
          <p:nvPr/>
        </p:nvSpPr>
        <p:spPr>
          <a:xfrm>
            <a:off x="5819760" y="4432320"/>
            <a:ext cx="18576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533160" y="1363680"/>
            <a:ext cx="800100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cells can express five different forms (or classes) of immunoglobulin (Ig) with similar antigen-binding specificity but different heavy chain C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gD: Membrane b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gM: First soluble class produ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gG: Second soluble class; most abund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gA and IgE: Remaining soluble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385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51920" y="6091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22268"/>
                </a:solidFill>
                <a:uFillTx/>
                <a:latin typeface="Arial"/>
              </a:rPr>
              <a:t>Immunizations/vacc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duce immune memory to nonpathogenic microbe or tox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22268"/>
                </a:solidFill>
                <a:uFillTx/>
                <a:latin typeface="Arial"/>
              </a:rPr>
              <a:t>Passive immun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via antibodies in breast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22268"/>
                </a:solidFill>
                <a:uFillTx/>
                <a:latin typeface="Arial"/>
              </a:rPr>
              <a:t>Allerg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ypersensitive responses to harmless anti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22268"/>
                </a:solidFill>
                <a:uFillTx/>
                <a:latin typeface="Arial"/>
              </a:rPr>
              <a:t>Autoimmune Dise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pus, rheumatoid arthritis, Type I diabetes, multiple scle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22268"/>
                </a:solidFill>
                <a:uFillTx/>
                <a:latin typeface="Arial"/>
              </a:rPr>
              <a:t>HI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fect Helper T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DS = severely weaken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mmune Rejec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1398600"/>
            <a:ext cx="815328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transferred from one person to another can be attacked by immune def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mplicates blood transfusions or the transplant of tissues or organ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392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60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lood Group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1397160"/>
            <a:ext cx="830556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ens on red blood cells determine whether a person has blood type A (A antigen), B (B antigen), AB (both A and B antigens), or O (neither anti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bodies to nonself blood types exist in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usion with incompatible blood leads to destruction of the transfuse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ient-donor combinations can be fatal or s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398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28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issue and Organ Transpla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HC molecules are different among genetically nonidentical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in MHC molecules stimulate rejection of tissue grafts and organ trans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ces of successful transplantation increase if donor and recipient MHC tissue types are well mat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osuppressive drugs facilitate transpla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mphocytes in bone marrow transplants may cause the donor tissue to reject the recip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04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you must know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elements of an innate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s between B and T cells relative to their activation and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tigens are recognized by immune system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s in humoral and cell-mediated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Helper T cells are central to immune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3.2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22" descr="43_22AllergicResponse-U"/>
          <p:cNvPicPr/>
          <p:nvPr/>
        </p:nvPicPr>
        <p:blipFill>
          <a:blip r:embed="rId1"/>
          <a:stretch/>
        </p:blipFill>
        <p:spPr>
          <a:xfrm>
            <a:off x="297000" y="1547640"/>
            <a:ext cx="8548560" cy="37627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4"/>
          <p:cNvSpPr/>
          <p:nvPr/>
        </p:nvSpPr>
        <p:spPr>
          <a:xfrm>
            <a:off x="2274840" y="1789200"/>
            <a:ext cx="38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1"/>
          <p:cNvSpPr/>
          <p:nvPr/>
        </p:nvSpPr>
        <p:spPr>
          <a:xfrm>
            <a:off x="4545000" y="2378160"/>
            <a:ext cx="95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r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2"/>
          <p:cNvSpPr/>
          <p:nvPr/>
        </p:nvSpPr>
        <p:spPr>
          <a:xfrm>
            <a:off x="7715160" y="1552680"/>
            <a:ext cx="1139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3"/>
          <p:cNvSpPr/>
          <p:nvPr/>
        </p:nvSpPr>
        <p:spPr>
          <a:xfrm>
            <a:off x="2965320" y="4383000"/>
            <a:ext cx="95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2706840" y="4735440"/>
            <a:ext cx="95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 flipH="1">
            <a:off x="1257120" y="1905120"/>
            <a:ext cx="96516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7"/>
          <p:cNvSpPr/>
          <p:nvPr/>
        </p:nvSpPr>
        <p:spPr>
          <a:xfrm flipH="1">
            <a:off x="1892160" y="1905120"/>
            <a:ext cx="33048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8"/>
          <p:cNvSpPr/>
          <p:nvPr/>
        </p:nvSpPr>
        <p:spPr>
          <a:xfrm flipH="1">
            <a:off x="4246560" y="2487600"/>
            <a:ext cx="27792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9"/>
          <p:cNvSpPr/>
          <p:nvPr/>
        </p:nvSpPr>
        <p:spPr>
          <a:xfrm flipH="1">
            <a:off x="8121240" y="1798560"/>
            <a:ext cx="15876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0"/>
          <p:cNvSpPr/>
          <p:nvPr/>
        </p:nvSpPr>
        <p:spPr>
          <a:xfrm>
            <a:off x="2460600" y="4179960"/>
            <a:ext cx="4636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1"/>
          <p:cNvSpPr/>
          <p:nvPr/>
        </p:nvSpPr>
        <p:spPr>
          <a:xfrm>
            <a:off x="2209680" y="4378320"/>
            <a:ext cx="4622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533520" y="136512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xt time the allergen enters the body, it binds to mast cell–associated IgE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 cells release histamine and other mediators that cause vascular changes leading to typical allergy symp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ute allergic response can lead to anaphylactic shock, a life-threatening reaction, within seconds of allergen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22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04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utoimmune Diseas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individuals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immune dise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immune system loses tolerance for self and turns against certain molecules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immune diseases include systemic lupus erythematosus, rheumatoid arthritis, insulin-dependent diabetes mellitus, and multiple scle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28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6" descr="43_23ArthritisXray-U"/>
          <p:cNvPicPr/>
          <p:nvPr/>
        </p:nvPicPr>
        <p:blipFill>
          <a:blip r:embed="rId1"/>
          <a:stretch/>
        </p:blipFill>
        <p:spPr>
          <a:xfrm>
            <a:off x="4764240" y="4341960"/>
            <a:ext cx="2703240" cy="19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77480" y="2026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xertion, Stress, and the Immune Syste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374480"/>
            <a:ext cx="830556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e exercise improves immune system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ical stress has been shown to disrupt immune system regulation by altering the interactions of the hormonal, nervous, and immun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 rest is also important for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35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60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mmunodeficiency Diseas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88960" y="1355400"/>
            <a:ext cx="809784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bor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munodefici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ults from hereditary or developmental defects that prevent proper functioning of innate, humoral, and/or cell-mediated def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ed immunodeficiency develops later in life and results from exposure to chemical and biological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quired immunodeficiency syndrome (AID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used by a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41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28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19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iruses may remain in a host in an inactive state called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pes simplex viruses can be present in a human host without causing symp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47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ttack on the Immune System: HIV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3160" y="1422360"/>
            <a:ext cx="8172360" cy="36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immunodeficiency virus (HIV) infects helper 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ss of helper T cells impairs both the humoral and cell-mediated immune responses and leads to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eludes the immune system because of antigenic variation and an ability to remain latent while integrated into host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6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53" name="Rectangle 7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Rectangle 9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54" descr="43_25UntreatedHIV-U"/>
          <p:cNvPicPr/>
          <p:nvPr/>
        </p:nvPicPr>
        <p:blipFill>
          <a:blip r:embed="rId1"/>
          <a:stretch/>
        </p:blipFill>
        <p:spPr>
          <a:xfrm>
            <a:off x="297000" y="139680"/>
            <a:ext cx="8548560" cy="657864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9"/>
          <p:cNvSpPr/>
          <p:nvPr/>
        </p:nvSpPr>
        <p:spPr>
          <a:xfrm>
            <a:off x="3711600" y="171360"/>
            <a:ext cx="10731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7"/>
          <p:cNvSpPr/>
          <p:nvPr/>
        </p:nvSpPr>
        <p:spPr>
          <a:xfrm>
            <a:off x="8004240" y="177840"/>
            <a:ext cx="730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8"/>
          <p:cNvSpPr/>
          <p:nvPr/>
        </p:nvSpPr>
        <p:spPr>
          <a:xfrm>
            <a:off x="3876840" y="2928960"/>
            <a:ext cx="19317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lper T cel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9"/>
          <p:cNvSpPr/>
          <p:nvPr/>
        </p:nvSpPr>
        <p:spPr>
          <a:xfrm>
            <a:off x="3220920" y="6097680"/>
            <a:ext cx="4035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ears after untreated inf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30"/>
          <p:cNvSpPr/>
          <p:nvPr/>
        </p:nvSpPr>
        <p:spPr>
          <a:xfrm rot="16200000">
            <a:off x="-1013400" y="2894760"/>
            <a:ext cx="36511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lper T cell concentratio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in blood (cells/m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1"/>
          <p:cNvSpPr/>
          <p:nvPr/>
        </p:nvSpPr>
        <p:spPr>
          <a:xfrm>
            <a:off x="3260880" y="884160"/>
            <a:ext cx="3493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1a23"/>
                </a:solidFill>
                <a:latin typeface="Arial"/>
              </a:rPr>
              <a:t>Relative anti-HIV antibody</a:t>
            </a:r>
            <a:br>
              <a:rPr sz="2200"/>
            </a:br>
            <a:r>
              <a:rPr b="1" lang="en-US" sz="2200" spc="-1" strike="noStrike">
                <a:solidFill>
                  <a:srgbClr val="ef1a23"/>
                </a:solidFill>
                <a:latin typeface="Arial"/>
              </a:rPr>
              <a:t>concen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2"/>
          <p:cNvSpPr/>
          <p:nvPr/>
        </p:nvSpPr>
        <p:spPr>
          <a:xfrm>
            <a:off x="4591080" y="2174760"/>
            <a:ext cx="19191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579b9"/>
                </a:solidFill>
                <a:latin typeface="Arial"/>
              </a:rPr>
              <a:t>Relative HIV</a:t>
            </a:r>
            <a:br>
              <a:rPr sz="2200"/>
            </a:br>
            <a:r>
              <a:rPr b="1" lang="en-US" sz="2200" spc="-1" strike="noStrike">
                <a:solidFill>
                  <a:srgbClr val="1579b9"/>
                </a:solidFill>
                <a:latin typeface="Arial"/>
              </a:rPr>
              <a:t>concen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3"/>
          <p:cNvSpPr/>
          <p:nvPr/>
        </p:nvSpPr>
        <p:spPr>
          <a:xfrm>
            <a:off x="1257480" y="1368360"/>
            <a:ext cx="54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4"/>
          <p:cNvSpPr/>
          <p:nvPr/>
        </p:nvSpPr>
        <p:spPr>
          <a:xfrm>
            <a:off x="1251000" y="2394000"/>
            <a:ext cx="54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5"/>
          <p:cNvSpPr/>
          <p:nvPr/>
        </p:nvSpPr>
        <p:spPr>
          <a:xfrm>
            <a:off x="1265400" y="3413160"/>
            <a:ext cx="54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6"/>
          <p:cNvSpPr/>
          <p:nvPr/>
        </p:nvSpPr>
        <p:spPr>
          <a:xfrm>
            <a:off x="1263600" y="4444920"/>
            <a:ext cx="544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7"/>
          <p:cNvSpPr/>
          <p:nvPr/>
        </p:nvSpPr>
        <p:spPr>
          <a:xfrm>
            <a:off x="1582560" y="5477040"/>
            <a:ext cx="187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8"/>
          <p:cNvSpPr/>
          <p:nvPr/>
        </p:nvSpPr>
        <p:spPr>
          <a:xfrm>
            <a:off x="1866960" y="5751360"/>
            <a:ext cx="1872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9"/>
          <p:cNvSpPr/>
          <p:nvPr/>
        </p:nvSpPr>
        <p:spPr>
          <a:xfrm>
            <a:off x="2508120" y="5754600"/>
            <a:ext cx="187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0"/>
          <p:cNvSpPr/>
          <p:nvPr/>
        </p:nvSpPr>
        <p:spPr>
          <a:xfrm>
            <a:off x="3168720" y="5754600"/>
            <a:ext cx="187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1"/>
          <p:cNvSpPr/>
          <p:nvPr/>
        </p:nvSpPr>
        <p:spPr>
          <a:xfrm>
            <a:off x="3843360" y="5753160"/>
            <a:ext cx="187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2"/>
          <p:cNvSpPr/>
          <p:nvPr/>
        </p:nvSpPr>
        <p:spPr>
          <a:xfrm>
            <a:off x="4492800" y="5754600"/>
            <a:ext cx="187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3"/>
          <p:cNvSpPr/>
          <p:nvPr/>
        </p:nvSpPr>
        <p:spPr>
          <a:xfrm>
            <a:off x="5160960" y="5754600"/>
            <a:ext cx="187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4"/>
          <p:cNvSpPr/>
          <p:nvPr/>
        </p:nvSpPr>
        <p:spPr>
          <a:xfrm>
            <a:off x="5815080" y="5754600"/>
            <a:ext cx="187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5"/>
          <p:cNvSpPr/>
          <p:nvPr/>
        </p:nvSpPr>
        <p:spPr>
          <a:xfrm>
            <a:off x="6464160" y="5753160"/>
            <a:ext cx="187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6"/>
          <p:cNvSpPr/>
          <p:nvPr/>
        </p:nvSpPr>
        <p:spPr>
          <a:xfrm>
            <a:off x="7137360" y="5753160"/>
            <a:ext cx="187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7"/>
          <p:cNvSpPr/>
          <p:nvPr/>
        </p:nvSpPr>
        <p:spPr>
          <a:xfrm>
            <a:off x="7800840" y="5749920"/>
            <a:ext cx="187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8"/>
          <p:cNvSpPr/>
          <p:nvPr/>
        </p:nvSpPr>
        <p:spPr>
          <a:xfrm>
            <a:off x="8381880" y="5754600"/>
            <a:ext cx="319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49"/>
          <p:cNvSpPr/>
          <p:nvPr/>
        </p:nvSpPr>
        <p:spPr>
          <a:xfrm>
            <a:off x="4286160" y="1508040"/>
            <a:ext cx="14472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50"/>
          <p:cNvSpPr/>
          <p:nvPr/>
        </p:nvSpPr>
        <p:spPr>
          <a:xfrm flipH="1">
            <a:off x="3676680" y="3122640"/>
            <a:ext cx="14616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51"/>
          <p:cNvSpPr/>
          <p:nvPr/>
        </p:nvSpPr>
        <p:spPr>
          <a:xfrm>
            <a:off x="6243480" y="2328840"/>
            <a:ext cx="5828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52"/>
          <p:cNvSpPr/>
          <p:nvPr/>
        </p:nvSpPr>
        <p:spPr>
          <a:xfrm rot="16200000">
            <a:off x="4119480" y="-1089360"/>
            <a:ext cx="244440" cy="3346560"/>
          </a:xfrm>
          <a:custGeom>
            <a:avLst/>
            <a:gdLst>
              <a:gd name="textAreaLeft" fmla="*/ 0 w 244440"/>
              <a:gd name="textAreaRight" fmla="*/ 88200 w 244440"/>
              <a:gd name="textAreaTop" fmla="*/ 87120 h 3346560"/>
              <a:gd name="textAreaBottom" fmla="*/ 3259440 h 334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53"/>
          <p:cNvSpPr/>
          <p:nvPr/>
        </p:nvSpPr>
        <p:spPr>
          <a:xfrm rot="16200000">
            <a:off x="8194680" y="127080"/>
            <a:ext cx="257040" cy="885600"/>
          </a:xfrm>
          <a:custGeom>
            <a:avLst/>
            <a:gdLst>
              <a:gd name="textAreaLeft" fmla="*/ 0 w 257040"/>
              <a:gd name="textAreaRight" fmla="*/ 92880 w 257040"/>
              <a:gd name="textAreaTop" fmla="*/ 23040 h 885600"/>
              <a:gd name="textAreaBottom" fmla="*/ 862560 h 88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3.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533160" y="1368000"/>
            <a:ext cx="7924680" cy="32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ith AIDS are highly susceptible to opportunistic infections and cancers that take advantage of an immune system in collap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read of HIV is a worldwid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st approach for slowing this spread is education about practices that transmit the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88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228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cer and Immun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33160" y="1368360"/>
            <a:ext cx="75438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equency of certain cancers increases when adaptive immunity is impa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% of all human cancers involve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mune system can act as a defense against viruses that cause cancer and cancer cells that harbor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6, a vaccine was released that acts against human papillomavirus (HPV), a virus associated with cervical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94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ypes of Immun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1981080"/>
          <a:ext cx="7772400" cy="31244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2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Innate Immun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Adaptive Immun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184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Non-specif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ll </a:t>
                      </a:r>
                      <a:r>
                        <a:rPr b="0" lang="en-US" sz="2800" spc="-1" strike="noStrike">
                          <a:solidFill>
                            <a:srgbClr val="005426"/>
                          </a:solidFill>
                          <a:latin typeface="Arial"/>
                          <a:ea typeface="ヒラギノ角ゴ Pro W3"/>
                        </a:rPr>
                        <a:t>plant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&amp; </a:t>
                      </a: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  <a:ea typeface="ヒラギノ角ゴ Pro W3"/>
                        </a:rPr>
                        <a:t>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athogen-specif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Only in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Arial"/>
                          <a:ea typeface="ヒラギノ角ゴ Pro W3"/>
                        </a:rPr>
                        <a:t>vertebr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Involves B and T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nt Defens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specific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ors recognize pathogen molecules and trigger defense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cken cell wall, produce antimicrobial compounds, cell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iz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Wheat rust"/>
          <p:cNvPicPr/>
          <p:nvPr/>
        </p:nvPicPr>
        <p:blipFill>
          <a:blip r:embed="rId1"/>
          <a:stretch/>
        </p:blipFill>
        <p:spPr>
          <a:xfrm>
            <a:off x="380880" y="228600"/>
            <a:ext cx="19051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3" descr="43_02ImmunityOverview-U"/>
          <p:cNvPicPr/>
          <p:nvPr/>
        </p:nvPicPr>
        <p:blipFill>
          <a:blip r:embed="rId1"/>
          <a:stretch/>
        </p:blipFill>
        <p:spPr>
          <a:xfrm>
            <a:off x="879480" y="136440"/>
            <a:ext cx="7383600" cy="65851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5864400" y="254160"/>
            <a:ext cx="2193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oge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uch as bacteria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gi, and viru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076400" y="1739880"/>
            <a:ext cx="20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ATE IMMUN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ll anim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050840" y="3454560"/>
            <a:ext cx="1889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pi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1050840" y="2286000"/>
            <a:ext cx="3260880" cy="1041480"/>
            <a:chOff x="1050840" y="2286000"/>
            <a:chExt cx="3260880" cy="1041480"/>
          </a:xfrm>
        </p:grpSpPr>
        <p:sp>
          <p:nvSpPr>
            <p:cNvPr id="114" name="Text Box 6"/>
            <p:cNvSpPr/>
            <p:nvPr/>
          </p:nvSpPr>
          <p:spPr>
            <a:xfrm>
              <a:off x="1203480" y="2286000"/>
              <a:ext cx="310824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gnition of traits shared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y broad ranges of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thogens, using a small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t of recept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1050840" y="2298600"/>
              <a:ext cx="17460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0"/>
          <p:cNvGrpSpPr/>
          <p:nvPr/>
        </p:nvGrpSpPr>
        <p:grpSpPr>
          <a:xfrm>
            <a:off x="1050840" y="5041800"/>
            <a:ext cx="3260880" cy="1041480"/>
            <a:chOff x="1050840" y="5041800"/>
            <a:chExt cx="3260880" cy="1041480"/>
          </a:xfrm>
        </p:grpSpPr>
        <p:sp>
          <p:nvSpPr>
            <p:cNvPr id="117" name="Text Box 11"/>
            <p:cNvSpPr/>
            <p:nvPr/>
          </p:nvSpPr>
          <p:spPr>
            <a:xfrm>
              <a:off x="1203480" y="5041800"/>
              <a:ext cx="310824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gnition of traits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pecific to particular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thogens, using a vast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ray of recept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2"/>
            <p:cNvSpPr/>
            <p:nvPr/>
          </p:nvSpPr>
          <p:spPr>
            <a:xfrm>
              <a:off x="1050840" y="5054400"/>
              <a:ext cx="17460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13"/>
          <p:cNvSpPr/>
          <p:nvPr/>
        </p:nvSpPr>
        <p:spPr>
          <a:xfrm>
            <a:off x="1050840" y="6197760"/>
            <a:ext cx="1990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er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4492800" y="1689120"/>
            <a:ext cx="1888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rier defen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4479840" y="1994040"/>
            <a:ext cx="22701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cous membra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re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4479840" y="2832120"/>
            <a:ext cx="2003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defen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4492800" y="3137040"/>
            <a:ext cx="257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gocytic cell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l killer cell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microbial protei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lammatory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4492800" y="4432320"/>
            <a:ext cx="21301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oral respon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4492800" y="4737240"/>
            <a:ext cx="2892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bodies defend again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ction in body flu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4492800" y="5499000"/>
            <a:ext cx="27399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-mediated respon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4479840" y="5803920"/>
            <a:ext cx="3362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toxic cells defe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ainst infection in body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063800" y="4483080"/>
            <a:ext cx="23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PTIVE IMMUN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ertebrates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3.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lowchart: Process 4"/>
          <p:cNvSpPr/>
          <p:nvPr/>
        </p:nvSpPr>
        <p:spPr>
          <a:xfrm>
            <a:off x="380880" y="380880"/>
            <a:ext cx="2743200" cy="1752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ヒラギノ角ゴ Pro W3"/>
              </a:rPr>
              <a:t>Barrier Defen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ucous membr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Lysozy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tears, saliva, muc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6"/>
          <p:cNvSpPr/>
          <p:nvPr/>
        </p:nvSpPr>
        <p:spPr>
          <a:xfrm>
            <a:off x="3124080" y="1257480"/>
            <a:ext cx="358920" cy="10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Process 10"/>
          <p:cNvSpPr/>
          <p:nvPr/>
        </p:nvSpPr>
        <p:spPr>
          <a:xfrm>
            <a:off x="152280" y="3962520"/>
            <a:ext cx="3810240" cy="25905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flammatory Respo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st cel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ista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vessels dilate, increase permeability (redness, swe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 clotting agents, phagocytic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1"/>
          <p:cNvSpPr/>
          <p:nvPr/>
        </p:nvSpPr>
        <p:spPr>
          <a:xfrm flipV="1">
            <a:off x="2057400" y="2933640"/>
            <a:ext cx="990720" cy="102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Process 26"/>
          <p:cNvSpPr/>
          <p:nvPr/>
        </p:nvSpPr>
        <p:spPr>
          <a:xfrm>
            <a:off x="5105520" y="4419720"/>
            <a:ext cx="3657600" cy="20574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gocytic WB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trophils (engu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croph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big eater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osinophils (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dritic cells (adaptive res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27"/>
          <p:cNvSpPr/>
          <p:nvPr/>
        </p:nvSpPr>
        <p:spPr>
          <a:xfrm>
            <a:off x="4533840" y="3809880"/>
            <a:ext cx="571680" cy="163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lowchart: Process 32"/>
          <p:cNvSpPr/>
          <p:nvPr/>
        </p:nvSpPr>
        <p:spPr>
          <a:xfrm>
            <a:off x="6477120" y="2590920"/>
            <a:ext cx="2438280" cy="14475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ヒラギノ角ゴ Pro W3"/>
              </a:rPr>
              <a:t>Natural Killer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irus-infected and cancer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33"/>
          <p:cNvSpPr/>
          <p:nvPr/>
        </p:nvSpPr>
        <p:spPr>
          <a:xfrm>
            <a:off x="6019920" y="293364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lowchart: Process 37"/>
          <p:cNvSpPr/>
          <p:nvPr/>
        </p:nvSpPr>
        <p:spPr>
          <a:xfrm>
            <a:off x="4572000" y="152280"/>
            <a:ext cx="4419720" cy="18288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timicrobial Prote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fe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hibit viral reprodu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mplement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~30 proteins, membrane attack compl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38"/>
          <p:cNvSpPr/>
          <p:nvPr/>
        </p:nvSpPr>
        <p:spPr>
          <a:xfrm flipV="1">
            <a:off x="5583960" y="1981080"/>
            <a:ext cx="1197000" cy="33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3048120" y="2057400"/>
            <a:ext cx="2971800" cy="1752480"/>
          </a:xfrm>
          <a:prstGeom prst="ellips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ate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n-specif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agocytosi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tent Placeholder 3" descr="43_03Phagocytosis-L.jpg"/>
          <p:cNvPicPr/>
          <p:nvPr/>
        </p:nvPicPr>
        <p:blipFill>
          <a:blip r:embed="rId1"/>
          <a:stretch/>
        </p:blipFill>
        <p:spPr>
          <a:xfrm>
            <a:off x="4495680" y="228600"/>
            <a:ext cx="40561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18:35:02Z</dcterms:created>
  <dc:creator>Jerome Burg</dc:creator>
  <dc:description/>
  <dc:language>en-US</dc:language>
  <cp:lastModifiedBy>Chris Nancy Chou</cp:lastModifiedBy>
  <dcterms:modified xsi:type="dcterms:W3CDTF">2013-03-15T06:14:13Z</dcterms:modified>
  <cp:revision>73</cp:revision>
  <dc:subject/>
  <dc:title>PowerPoint Presentation</dc:title>
</cp:coreProperties>
</file>